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8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4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4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ustomShape 1"/>
          <p:cNvSpPr/>
          <p:nvPr/>
        </p:nvSpPr>
        <p:spPr>
          <a:xfrm>
            <a:off x="685800" y="2130480"/>
            <a:ext cx="776880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l-PL" sz="13400" spc="-1" strike="noStrike">
                <a:solidFill>
                  <a:srgbClr val="ff9900"/>
                </a:solidFill>
                <a:latin typeface="Arial"/>
                <a:ea typeface="DejaVu Sans"/>
              </a:rPr>
              <a:t>C</a:t>
            </a:r>
            <a:r>
              <a:rPr b="1" lang="pl-PL" sz="13400" spc="-1" strike="noStrike">
                <a:solidFill>
                  <a:srgbClr val="ff3300"/>
                </a:solidFill>
                <a:latin typeface="Arial"/>
                <a:ea typeface="DejaVu Sans"/>
              </a:rPr>
              <a:t>O</a:t>
            </a:r>
            <a:r>
              <a:rPr b="1" lang="pl-PL" sz="13400" spc="-1" strike="noStrike">
                <a:solidFill>
                  <a:srgbClr val="ff0000"/>
                </a:solidFill>
                <a:latin typeface="Arial"/>
                <a:ea typeface="DejaVu Sans"/>
              </a:rPr>
              <a:t>Ś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2"/>
          <p:cNvSpPr/>
          <p:nvPr/>
        </p:nvSpPr>
        <p:spPr>
          <a:xfrm>
            <a:off x="1371600" y="3886200"/>
            <a:ext cx="639720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0" lang="pl-PL" sz="3200" spc="-1" strike="noStrike">
                <a:solidFill>
                  <a:srgbClr val="bbe0e3"/>
                </a:solidFill>
                <a:latin typeface="Arial"/>
                <a:ea typeface="DejaVu Sans"/>
              </a:rPr>
              <a:t>z nicz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6516720" y="692280"/>
            <a:ext cx="2444400" cy="18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179280" y="669960"/>
            <a:ext cx="6235200" cy="54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324000" y="189000"/>
            <a:ext cx="4323960" cy="647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Znalezione obrazy dla zapytania co mo&amp;zdot;na zrobi&amp;cacute; z recyklingu"/>
          <p:cNvPicPr/>
          <p:nvPr/>
        </p:nvPicPr>
        <p:blipFill>
          <a:blip r:embed="rId2"/>
          <a:stretch/>
        </p:blipFill>
        <p:spPr>
          <a:xfrm>
            <a:off x="4932360" y="1700280"/>
            <a:ext cx="3957120" cy="29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745560" y="705240"/>
            <a:ext cx="7749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936000" y="869400"/>
            <a:ext cx="6611760" cy="49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2492640" y="720000"/>
            <a:ext cx="41288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742680" y="504000"/>
            <a:ext cx="75355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512000" y="316080"/>
            <a:ext cx="6090120" cy="609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332000" y="741240"/>
            <a:ext cx="6764040" cy="53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690560" y="404640"/>
            <a:ext cx="5757480" cy="57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893960" y="260280"/>
            <a:ext cx="5195520" cy="62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57200" y="257040"/>
            <a:ext cx="822600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plastikowe butel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45960" y="1323360"/>
            <a:ext cx="844848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70280" y="1065960"/>
            <a:ext cx="68014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920680" cy="66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864000" y="873360"/>
            <a:ext cx="7233120" cy="48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755640" y="648000"/>
            <a:ext cx="7559640" cy="56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763640" y="404640"/>
            <a:ext cx="5652720" cy="59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1762920" y="720000"/>
            <a:ext cx="5290560" cy="52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612000" y="1080000"/>
            <a:ext cx="7522200" cy="50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95280" y="846000"/>
            <a:ext cx="842112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ustomShape 1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2548080" y="376200"/>
            <a:ext cx="40446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576000" y="692640"/>
            <a:ext cx="8026920" cy="538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629000" y="288000"/>
            <a:ext cx="60008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2108520" y="596520"/>
            <a:ext cx="523296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690560" y="171360"/>
            <a:ext cx="57589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76360" y="590400"/>
            <a:ext cx="63338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7"/>
          <p:cNvPicPr/>
          <p:nvPr/>
        </p:nvPicPr>
        <p:blipFill>
          <a:blip r:embed="rId1"/>
          <a:stretch/>
        </p:blipFill>
        <p:spPr>
          <a:xfrm>
            <a:off x="539640" y="868320"/>
            <a:ext cx="8060760" cy="48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Znalezione obrazy dla zapytania co mo&amp;zdot;na zrobi&amp;cacute; z plastikowych nakr&amp;eogon;tek"/>
          <p:cNvPicPr/>
          <p:nvPr/>
        </p:nvPicPr>
        <p:blipFill>
          <a:blip r:embed="rId1"/>
          <a:stretch/>
        </p:blipFill>
        <p:spPr>
          <a:xfrm>
            <a:off x="576000" y="720000"/>
            <a:ext cx="7653240" cy="54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709720" y="100080"/>
            <a:ext cx="3720600" cy="66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872000" y="720000"/>
            <a:ext cx="5509440" cy="54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3924360" y="1844640"/>
            <a:ext cx="3055680" cy="154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5025600" cy="66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853560" y="604440"/>
            <a:ext cx="7496640" cy="58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708000" cy="54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812760" cy="38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_0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519200" y="189000"/>
            <a:ext cx="6165360" cy="64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539640" y="981000"/>
            <a:ext cx="8133840" cy="46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611280" y="1019160"/>
            <a:ext cx="7666920" cy="48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619280" y="403200"/>
            <a:ext cx="5901840" cy="59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900000" y="657360"/>
            <a:ext cx="73418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719280" y="864000"/>
            <a:ext cx="7491600" cy="50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828760" cy="58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611280" y="297000"/>
            <a:ext cx="7918200" cy="59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06836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1296000" y="1036080"/>
            <a:ext cx="6018120" cy="457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042920" y="699840"/>
            <a:ext cx="68752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728000" y="504000"/>
            <a:ext cx="6370200" cy="575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CustomShape 1"/>
          <p:cNvSpPr/>
          <p:nvPr/>
        </p:nvSpPr>
        <p:spPr>
          <a:xfrm>
            <a:off x="2556000" y="4292640"/>
            <a:ext cx="38840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DejaVu Sans"/>
              </a:rPr>
              <a:t>Kor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ustomShape 2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stomShape 3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stomShape 4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stomShape 5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stomShape 6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ustomShape 7"/>
          <p:cNvSpPr/>
          <p:nvPr/>
        </p:nvSpPr>
        <p:spPr>
          <a:xfrm>
            <a:off x="155520" y="4608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Znalezione obrazy dla zapytania korki od  butelek plastikowych"/>
          <p:cNvPicPr/>
          <p:nvPr/>
        </p:nvPicPr>
        <p:blipFill>
          <a:blip r:embed="rId1"/>
          <a:stretch/>
        </p:blipFill>
        <p:spPr>
          <a:xfrm>
            <a:off x="3203640" y="1989000"/>
            <a:ext cx="2733120" cy="20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2268360" y="189000"/>
            <a:ext cx="4820760" cy="64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Znalezione obrazy dla zapytania co mo&amp;zdot;na zrobi&amp;cacute; z plastikowych nakr&amp;eogon;tek"/>
          <p:cNvPicPr/>
          <p:nvPr/>
        </p:nvPicPr>
        <p:blipFill>
          <a:blip r:embed="rId1"/>
          <a:stretch/>
        </p:blipFill>
        <p:spPr>
          <a:xfrm>
            <a:off x="970920" y="864000"/>
            <a:ext cx="7019280" cy="48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576000" y="864000"/>
            <a:ext cx="7810920" cy="51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008000" y="736200"/>
            <a:ext cx="6861600" cy="559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908000" y="262080"/>
            <a:ext cx="5536800" cy="64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971640" y="549360"/>
            <a:ext cx="7089480" cy="52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ustomShape 1"/>
          <p:cNvSpPr/>
          <p:nvPr/>
        </p:nvSpPr>
        <p:spPr>
          <a:xfrm>
            <a:off x="457200" y="476280"/>
            <a:ext cx="8226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plastikowe łyżecz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stomShape 2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ustomShape 3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stomShape 4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3971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77880" y="115920"/>
            <a:ext cx="1729800" cy="6654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Znalezione obrazy dla zapytania co mo&amp;zdot;na zrobi&amp;cacute; z recyklingu"/>
          <p:cNvPicPr/>
          <p:nvPr/>
        </p:nvPicPr>
        <p:blipFill>
          <a:blip r:embed="rId2"/>
          <a:stretch/>
        </p:blipFill>
        <p:spPr>
          <a:xfrm>
            <a:off x="3341520" y="1197000"/>
            <a:ext cx="4898520" cy="43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ustomShape 1"/>
          <p:cNvSpPr/>
          <p:nvPr/>
        </p:nvSpPr>
        <p:spPr>
          <a:xfrm>
            <a:off x="457200" y="341280"/>
            <a:ext cx="8226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kubeczki jednoraz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755640" y="1539720"/>
            <a:ext cx="7616520" cy="44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368000" y="361800"/>
            <a:ext cx="5902560" cy="60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Znalezione obrazy dla zapytania co mo&amp;zdot;na zrobi&amp;cacute; z plastikowych kubeczków"/>
          <p:cNvPicPr/>
          <p:nvPr/>
        </p:nvPicPr>
        <p:blipFill>
          <a:blip r:embed="rId1"/>
          <a:stretch/>
        </p:blipFill>
        <p:spPr>
          <a:xfrm>
            <a:off x="1044000" y="720000"/>
            <a:ext cx="7018200" cy="52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Znalezione obrazy dla zapytania co mo&amp;zdot;na zrobi&amp;cacute; z plastikowych kubeczków"/>
          <p:cNvPicPr/>
          <p:nvPr/>
        </p:nvPicPr>
        <p:blipFill>
          <a:blip r:embed="rId1"/>
          <a:stretch/>
        </p:blipFill>
        <p:spPr>
          <a:xfrm>
            <a:off x="468360" y="1198440"/>
            <a:ext cx="2587320" cy="4314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Znalezione obrazy dla zapytania co mo&amp;zdot;na zrobi&amp;cacute; z plastikowych kubeczków"/>
          <p:cNvPicPr/>
          <p:nvPr/>
        </p:nvPicPr>
        <p:blipFill>
          <a:blip r:embed="rId2"/>
          <a:stretch/>
        </p:blipFill>
        <p:spPr>
          <a:xfrm>
            <a:off x="3419640" y="1268280"/>
            <a:ext cx="5304960" cy="43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Znalezione obrazy dla zapytania co mo&amp;zdot;na zrobi&amp;cacute; z plastikowych kubeczków"/>
          <p:cNvPicPr/>
          <p:nvPr/>
        </p:nvPicPr>
        <p:blipFill>
          <a:blip r:embed="rId1"/>
          <a:stretch/>
        </p:blipFill>
        <p:spPr>
          <a:xfrm>
            <a:off x="936000" y="1077480"/>
            <a:ext cx="7018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081080" y="731880"/>
            <a:ext cx="701640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ustomShape 1"/>
          <p:cNvSpPr/>
          <p:nvPr/>
        </p:nvSpPr>
        <p:spPr>
          <a:xfrm>
            <a:off x="468360" y="630360"/>
            <a:ext cx="8226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wytłaczanki do jaj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ustomShape 2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ustomShape 3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ustomShape 4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ustomShape 5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8" descr=""/>
          <p:cNvPicPr/>
          <p:nvPr/>
        </p:nvPicPr>
        <p:blipFill>
          <a:blip r:embed="rId1"/>
          <a:stretch/>
        </p:blipFill>
        <p:spPr>
          <a:xfrm>
            <a:off x="2411280" y="2619360"/>
            <a:ext cx="44604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Znalezione obrazy dla zapytania co mo&amp;zdot;na zrobi&amp;cacute; z opakowa&amp;nacute; od jajek"/>
          <p:cNvPicPr/>
          <p:nvPr/>
        </p:nvPicPr>
        <p:blipFill>
          <a:blip r:embed="rId1"/>
          <a:stretch/>
        </p:blipFill>
        <p:spPr>
          <a:xfrm>
            <a:off x="4643280" y="1844640"/>
            <a:ext cx="4301640" cy="2854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Znalezione obrazy dla zapytania co mo&amp;zdot;na zrobi&amp;cacute; z opakowa&amp;nacute; od jajek"/>
          <p:cNvPicPr/>
          <p:nvPr/>
        </p:nvPicPr>
        <p:blipFill>
          <a:blip r:embed="rId2"/>
          <a:stretch/>
        </p:blipFill>
        <p:spPr>
          <a:xfrm>
            <a:off x="250920" y="1844640"/>
            <a:ext cx="43016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Znalezione obrazy dla zapytania co mo&amp;zdot;na zrobi&amp;cacute; z opakowa&amp;nacute; od jajek"/>
          <p:cNvPicPr/>
          <p:nvPr/>
        </p:nvPicPr>
        <p:blipFill>
          <a:blip r:embed="rId1"/>
          <a:stretch/>
        </p:blipFill>
        <p:spPr>
          <a:xfrm>
            <a:off x="0" y="1052640"/>
            <a:ext cx="6473520" cy="4301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Znalezione obrazy dla zapytania co mo&amp;zdot;na zrobi&amp;cacute; z opakowa&amp;nacute; od jajek"/>
          <p:cNvPicPr/>
          <p:nvPr/>
        </p:nvPicPr>
        <p:blipFill>
          <a:blip r:embed="rId2"/>
          <a:stretch/>
        </p:blipFill>
        <p:spPr>
          <a:xfrm>
            <a:off x="5219640" y="1052640"/>
            <a:ext cx="3920760" cy="43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Znalezione obrazy dla zapytania co mo&amp;zdot;na zrobi&amp;cacute; z opakowa&amp;nacute; od jajek"/>
          <p:cNvPicPr/>
          <p:nvPr/>
        </p:nvPicPr>
        <p:blipFill>
          <a:blip r:embed="rId1"/>
          <a:stretch/>
        </p:blipFill>
        <p:spPr>
          <a:xfrm>
            <a:off x="900000" y="692280"/>
            <a:ext cx="763056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Znalezione obrazy dla zapytania co mo&amp;zdot;na zrobi&amp;cacute; z opakowa&amp;nacute; od jajek"/>
          <p:cNvPicPr/>
          <p:nvPr/>
        </p:nvPicPr>
        <p:blipFill>
          <a:blip r:embed="rId1"/>
          <a:stretch/>
        </p:blipFill>
        <p:spPr>
          <a:xfrm>
            <a:off x="1042920" y="884160"/>
            <a:ext cx="7052760" cy="47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1006560" y="864000"/>
            <a:ext cx="6911640" cy="52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372960" y="831960"/>
            <a:ext cx="3763440" cy="504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Znalezione obrazy dla zapytania co mo&amp;zdot;na zrobi&amp;cacute; z recyklingu"/>
          <p:cNvPicPr/>
          <p:nvPr/>
        </p:nvPicPr>
        <p:blipFill>
          <a:blip r:embed="rId2"/>
          <a:stretch/>
        </p:blipFill>
        <p:spPr>
          <a:xfrm>
            <a:off x="4530600" y="864000"/>
            <a:ext cx="4037400" cy="50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4100040" cy="2728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4028760" cy="304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3"/>
          <a:stretch/>
        </p:blipFill>
        <p:spPr>
          <a:xfrm>
            <a:off x="5796000" y="2279520"/>
            <a:ext cx="2882520" cy="15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22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260000" y="576000"/>
            <a:ext cx="6442200" cy="58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Znalezione obrazy dla zapytania co mo&amp;zdot;na zrobi&amp;cacute; z opakowa&amp;nacute; od jajek"/>
          <p:cNvPicPr/>
          <p:nvPr/>
        </p:nvPicPr>
        <p:blipFill>
          <a:blip r:embed="rId1"/>
          <a:stretch/>
        </p:blipFill>
        <p:spPr>
          <a:xfrm>
            <a:off x="684360" y="765000"/>
            <a:ext cx="7773480" cy="45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ustomShape 1"/>
          <p:cNvSpPr/>
          <p:nvPr/>
        </p:nvSpPr>
        <p:spPr>
          <a:xfrm>
            <a:off x="457200" y="701640"/>
            <a:ext cx="8226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kartony po sokach, mlek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1116000" y="2452680"/>
            <a:ext cx="6797160" cy="27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Znalezione obrazy dla zapytania co mo&amp;zdot;na zrobi&amp;cacute; z kartonu po mleku"/>
          <p:cNvPicPr/>
          <p:nvPr/>
        </p:nvPicPr>
        <p:blipFill>
          <a:blip r:embed="rId1"/>
          <a:stretch/>
        </p:blipFill>
        <p:spPr>
          <a:xfrm>
            <a:off x="2438280" y="260280"/>
            <a:ext cx="4217400" cy="62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Znalezione obrazy dla zapytania co mo&amp;zdot;na zrobi&amp;cacute; z kartonu po mleku"/>
          <p:cNvPicPr/>
          <p:nvPr/>
        </p:nvPicPr>
        <p:blipFill>
          <a:blip r:embed="rId1"/>
          <a:stretch/>
        </p:blipFill>
        <p:spPr>
          <a:xfrm>
            <a:off x="2556000" y="374760"/>
            <a:ext cx="4077720" cy="61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Znalezione obrazy dla zapytania co mo&amp;zdot;na zrobi&amp;cacute; z kartonu po mleku"/>
          <p:cNvPicPr/>
          <p:nvPr/>
        </p:nvPicPr>
        <p:blipFill>
          <a:blip r:embed="rId1"/>
          <a:stretch/>
        </p:blipFill>
        <p:spPr>
          <a:xfrm>
            <a:off x="612720" y="1009800"/>
            <a:ext cx="7916400" cy="44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Znalezione obrazy dla zapytania co mo&amp;zdot;na zrobi&amp;cacute; z kartonu po mleku"/>
          <p:cNvPicPr/>
          <p:nvPr/>
        </p:nvPicPr>
        <p:blipFill>
          <a:blip r:embed="rId1"/>
          <a:stretch/>
        </p:blipFill>
        <p:spPr>
          <a:xfrm>
            <a:off x="1908000" y="403200"/>
            <a:ext cx="5290560" cy="58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ustomShape 1"/>
          <p:cNvSpPr/>
          <p:nvPr/>
        </p:nvSpPr>
        <p:spPr>
          <a:xfrm>
            <a:off x="457200" y="846000"/>
            <a:ext cx="8226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1944000" y="792000"/>
            <a:ext cx="5289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Znalezione obrazy dla zapytania co mo&amp;zdot;na zrobi&amp;cacute; z plastikowych kubeczków"/>
          <p:cNvPicPr/>
          <p:nvPr/>
        </p:nvPicPr>
        <p:blipFill>
          <a:blip r:embed="rId1"/>
          <a:stretch/>
        </p:blipFill>
        <p:spPr>
          <a:xfrm>
            <a:off x="468360" y="1052640"/>
            <a:ext cx="8205480" cy="46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4572000" y="1268280"/>
            <a:ext cx="8240400" cy="44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Znalezione obrazy dla zapytania co mo&amp;zdot;na zrobi&amp;cacute; z plastikowych kubeczków"/>
          <p:cNvPicPr/>
          <p:nvPr/>
        </p:nvPicPr>
        <p:blipFill>
          <a:blip r:embed="rId1"/>
          <a:stretch/>
        </p:blipFill>
        <p:spPr>
          <a:xfrm>
            <a:off x="468360" y="836640"/>
            <a:ext cx="820548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ustomShape 1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stomShape 2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stomShape 3"/>
          <p:cNvSpPr/>
          <p:nvPr/>
        </p:nvSpPr>
        <p:spPr>
          <a:xfrm>
            <a:off x="4419720" y="3276720"/>
            <a:ext cx="30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720000" y="936000"/>
            <a:ext cx="7523640" cy="50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60360" y="536400"/>
            <a:ext cx="8384760" cy="53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-304920" y="318960"/>
            <a:ext cx="9749880" cy="62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692400" cy="47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Znalezione obrazy dla zapytania co mo&amp;zdot;na zrobi&amp;cacute; z plastikowych butelek"/>
          <p:cNvPicPr/>
          <p:nvPr/>
        </p:nvPicPr>
        <p:blipFill>
          <a:blip r:embed="rId1"/>
          <a:stretch/>
        </p:blipFill>
        <p:spPr>
          <a:xfrm>
            <a:off x="684360" y="1628640"/>
            <a:ext cx="3236400" cy="3093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Znalezione obrazy dla zapytania co mo&amp;zdot;na zrobi&amp;cacute; z plastikowych butelek"/>
          <p:cNvPicPr/>
          <p:nvPr/>
        </p:nvPicPr>
        <p:blipFill>
          <a:blip r:embed="rId2"/>
          <a:stretch/>
        </p:blipFill>
        <p:spPr>
          <a:xfrm>
            <a:off x="4354560" y="1700280"/>
            <a:ext cx="4101840" cy="30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Znalezione obrazy dla zapytania co mo&amp;zdot;na zrobi&amp;cacute; z recyklingu"/>
          <p:cNvPicPr/>
          <p:nvPr/>
        </p:nvPicPr>
        <p:blipFill>
          <a:blip r:embed="rId1"/>
          <a:stretch/>
        </p:blipFill>
        <p:spPr>
          <a:xfrm>
            <a:off x="1116000" y="765000"/>
            <a:ext cx="6981480" cy="52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Znalezione obrazy dla zapytania &amp;lstrok;a&amp;nacute;cuch &amp;sacute;wi&amp;aogon;teczny z recyklingu"/>
          <p:cNvPicPr/>
          <p:nvPr/>
        </p:nvPicPr>
        <p:blipFill>
          <a:blip r:embed="rId1"/>
          <a:stretch/>
        </p:blipFill>
        <p:spPr>
          <a:xfrm>
            <a:off x="1476360" y="404640"/>
            <a:ext cx="611784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97520" y="443160"/>
            <a:ext cx="453996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57560" y="162000"/>
            <a:ext cx="4625640" cy="65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&amp;Dstrok;ồng Nát Decor"/>
          <p:cNvPicPr/>
          <p:nvPr/>
        </p:nvPicPr>
        <p:blipFill>
          <a:blip r:embed="rId1"/>
          <a:stretch/>
        </p:blipFill>
        <p:spPr>
          <a:xfrm>
            <a:off x="2340000" y="468360"/>
            <a:ext cx="4471560" cy="55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  <Words>20</Words>
  <Paragraphs>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20:35:41Z</dcterms:created>
  <dc:creator>Roman Batorski</dc:creator>
  <dc:description/>
  <dc:language>pl-PL</dc:language>
  <cp:lastModifiedBy>Madlen</cp:lastModifiedBy>
  <dcterms:modified xsi:type="dcterms:W3CDTF">2020-01-01T14:36:03Z</dcterms:modified>
  <cp:revision>28</cp:revision>
  <dc:subject/>
  <dc:title>COŚ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okaz na ekranie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91</vt:r8>
  </property>
</Properties>
</file>